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D21-E2C0-4FD8-8662-08F2B243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7E3-38DB-4492-86A9-2D053537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76B-A47A-4DB4-A592-456ABDE4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CC4-31D1-4A57-8616-84A94DEF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501-BDA3-44B4-A339-D7FF197F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A4A-835A-41B9-AC98-30F1A2C0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6FF-3E89-4645-98EF-0EC4FF38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B95-2C4F-4128-824E-B046C4F4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6D6-8740-4955-BE28-067970A0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1FD-DBC4-48A3-B2C6-64761DB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091-D974-4DA8-9AA8-3219FBC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DDC-11C9-4280-A65D-B2631616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704C-27A4-43DD-805E-78E27AF9E1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996633"/>
                </a:solidFill>
                <a:uFillTx/>
                <a:latin typeface="Comic Sans MS"/>
              </a:rPr>
              <a:t>Long, long, lo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crocodile, c’est long, long,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fourmi, c’est riquiq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305560" cy="247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5105520"/>
            <a:ext cx="1270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0"/>
            <a:ext cx="82296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éléphant, c’est gros, gros, gr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souris, c’est tout pet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4672080" cy="413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flipH="1">
            <a:off x="3505320" y="5409360"/>
            <a:ext cx="22860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girafe, c’est haut, haut, h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poussin, c’est mini m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1490400" cy="5410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698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0"/>
            <a:ext cx="82296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L’hippopotame est rond, rond, ro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Et le poisson tout apl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350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0" y="4876920"/>
            <a:ext cx="46720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crocodile, c’est long, long,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fourmi, c’est riquiq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éléphant, c’est gros, gros, gr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souris, c’est tout pet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girafe, c’est haut, haut, ha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poussin, c’est mini, m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L’hippopotame est rond, rond, ro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Et le poisson tout apl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19:53:16Z</dcterms:created>
  <dc:creator>florence barats</dc:creator>
  <dc:description/>
  <dc:language>en-US</dc:language>
  <cp:lastModifiedBy>Teacher</cp:lastModifiedBy>
  <dcterms:modified xsi:type="dcterms:W3CDTF">2006-10-19T18:37:57Z</dcterms:modified>
  <cp:revision>3</cp:revision>
  <dc:subject/>
  <dc:title>Long, long, long</dc:title>
</cp:coreProperties>
</file>